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A97F-5068-40A0-98A7-E1EE9DA5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A7F8-BE40-45BD-946A-F00B29D4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687E-D08A-48EE-9961-21AF8FE90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21DA-E5B4-490F-B27A-764816AE7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64A3-4CF3-473C-BD03-67AD6027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2812-DCA5-4E74-ABFD-C6965A60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4B8D-C9FA-4C30-A8B0-F86B73A1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32AE-1992-410F-923C-3A6AC20F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5DE5-3D4C-4B55-B501-31F7DF74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1F64-7D5D-4692-9CDD-8F02B0CA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A31B-7F83-46A7-A903-1FC84A97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4ED7-8349-410E-84CE-A378C79C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8A34-E1FE-4657-98FC-0B9AECCAC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403280" y="476280"/>
            <a:ext cx="66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ГБПОУ Уфимский политехниче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коллед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981000"/>
            <a:ext cx="727236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ОТКРЫТЫЙ УРОК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соревнование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о теме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«ПОКАЗАТЕЛЬНЫЕ И ЛОГАРИФМИЧЕСКИЕ ФУНКЦИ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42920" y="4724280"/>
            <a:ext cx="5653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                     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преподаватель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Барсукова Наталья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971640" y="3420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одведение ито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1.  Теоретические зн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92360" y="-1933560"/>
            <a:ext cx="5256000" cy="113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Оценка                                                                                                                                "3"  -   8-10 баллов                                                                                                                                "4"  -   11-14 баллов                                                                                                                                "5"  -   15-17 баллов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-2403360"/>
            <a:ext cx="9144000" cy="92613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79280" y="-197172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Решить уравн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-6033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1.                              6.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2.                              7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    8.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    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5.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   10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755640" y="-744480"/>
                <a:ext cx="18003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755640" y="369720"/>
                <a:ext cx="1512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55640" y="1484280"/>
                <a:ext cx="22320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826920" y="2492280"/>
                <a:ext cx="20163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826920" y="3645000"/>
                <a:ext cx="180036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4932360" y="-747720"/>
                <a:ext cx="23050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5003640" y="404640"/>
                <a:ext cx="252108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b>
                    </m:sSub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5003640" y="1557360"/>
                <a:ext cx="23767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932360" y="2637000"/>
                <a:ext cx="280836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4932360" y="3429000"/>
                <a:ext cx="22827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403280" y="2602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Поиск ошиб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5280" y="1125360"/>
            <a:ext cx="8064360" cy="71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1.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                       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2.                            5.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        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900000" y="1052640"/>
                <a:ext cx="237672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971640" y="2637000"/>
                <a:ext cx="230508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971640" y="4292640"/>
                <a:ext cx="23050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076720" y="4221000"/>
                <a:ext cx="163692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003640" y="1052640"/>
                <a:ext cx="36007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7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932360" y="2708280"/>
                <a:ext cx="4032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684360" y="33336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Найдите область определения логарифмической фун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4000" y="1628640"/>
            <a:ext cx="7920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1.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             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2.                               5.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               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826920" y="1557360"/>
                <a:ext cx="20876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900000" y="2997360"/>
                <a:ext cx="29512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971640" y="4437000"/>
                <a:ext cx="27176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х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4500720" y="1557360"/>
                <a:ext cx="30240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4716360" y="2997360"/>
                <a:ext cx="29527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х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4643280" y="4365720"/>
                <a:ext cx="331344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π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017720" y="260280"/>
            <a:ext cx="74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Решить неравенст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68360" y="1197000"/>
            <a:ext cx="8137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                        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2.                           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1187280" y="1557360"/>
                <a:ext cx="18576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116000" y="3500280"/>
                <a:ext cx="2087640" cy="14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&l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4788000" y="1557360"/>
                <a:ext cx="30970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5076720" y="3789360"/>
                <a:ext cx="324036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46640" cy="30877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419640" y="260280"/>
            <a:ext cx="525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Джон НЕПЕР шотландский математик, изобретатель логариф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572000" y="16286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1550-1617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4000" y="2133720"/>
            <a:ext cx="8351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                       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Потомок стари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                    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воинственного     шотландского р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Изучал логику, теологию, право, физику, эти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математику. Увлекался алхимией и астрологией. Изобрел несколько полез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сельскохозяйственных орудий. В 1590-х годах пришел к идее логарифмических вычислений и составил первые таблицы логарифм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однако свой знаменитый  тру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"Описание удивительных таблиц логарифмов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опубликовал лишь в 1614 году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349236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Йост Берги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52680" cy="32860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3780000" y="90792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(1552-163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50920" y="1484280"/>
            <a:ext cx="856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Швейцарский и немец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математик, астрон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                                  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часовщик и приборостроите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                                  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Один из первых изобретате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                             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часов с маятником, извест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также как автор логарифмических таблиц, которые разработал раньше Джона Непера, но опубликовал свой труд  «Таблицы арифметической и геометрической прогрессий, вместе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основательным наставлением, как их нужно понимать и с пользой применять во всяческих вычислениях»  только в 1620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 flipV="1" rot="10800000">
            <a:off x="248760" y="330840"/>
            <a:ext cx="8355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В конце 1620-х годов была изобретена логарифмическая линейка, счетный инструмент, использующий таблицы Непера для упрощения вычислений. С помощью логарифмической линейки операции над числами заменяются операциями над логарифмами этих чисел. В 1617 году, незадолго до своей смерти, Непер изобрел математический набор, призванный облегчить арифметические вычисления. Набор состоял из брусков с нанесенными на них цифрами от 0 до 9 и кратными им числами. Для умножения какого-либо числа бруски располагали рядом так, чтобы цифры на торцах составляли это число. Ответ можно было увидеть на боковых сторонах брусков. Помимо умножения, палочки Непера позволяли выполнять деление и извлечение квадратного кор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84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250920" y="47628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В 1620 году английскими  математиками Эдмунд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Гантером и Уильямом Отредом была изобретена первая логарифмическая линейка, ставшая рабочим инструментом для многих поколений вплоть до появления ЭВ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3" descr="Go to fullsize image"/>
          <p:cNvPicPr/>
          <p:nvPr/>
        </p:nvPicPr>
        <p:blipFill>
          <a:blip r:embed="rId2"/>
          <a:stretch/>
        </p:blipFill>
        <p:spPr>
          <a:xfrm>
            <a:off x="250920" y="2565360"/>
            <a:ext cx="2300040" cy="25210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3276720" y="2133720"/>
            <a:ext cx="3425760" cy="16984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Логарифмическая линейка"/>
          <p:cNvPicPr/>
          <p:nvPr/>
        </p:nvPicPr>
        <p:blipFill>
          <a:blip r:embed="rId4"/>
          <a:stretch/>
        </p:blipFill>
        <p:spPr>
          <a:xfrm>
            <a:off x="2843280" y="3789360"/>
            <a:ext cx="5329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1125360"/>
            <a:ext cx="8642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Подобны логарифмы шторму,</a:t>
            </a: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Их море - грозный интеллект.</a:t>
            </a: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Какая логика из формул!</a:t>
            </a: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Что лучше создал человек?                     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Виктория    Шемяк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611280" y="1484280"/>
                <a:ext cx="1728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у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5003640" y="1484280"/>
                <a:ext cx="1800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у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940360" y="6093000"/>
                <a:ext cx="22860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2987640" y="3500280"/>
                <a:ext cx="14400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7451640" y="3500280"/>
                <a:ext cx="1224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1547640" y="234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4000" y="32385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79280" y="907920"/>
          <a:ext cx="8785440" cy="4176720"/>
        </p:xfrm>
        <a:graphic>
          <a:graphicData uri="http://schemas.openxmlformats.org/drawingml/2006/table">
            <a:tbl>
              <a:tblPr/>
              <a:tblGrid>
                <a:gridCol w="2224080"/>
                <a:gridCol w="2149560"/>
                <a:gridCol w="2298600"/>
                <a:gridCol w="2113200"/>
              </a:tblGrid>
              <a:tr h="511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             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1 вариа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            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2 вариа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)   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)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 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)     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) убыва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7)    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) убыва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7)      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)  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)    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)     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)    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826920" y="2637000"/>
                <a:ext cx="115128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5435640" y="3500280"/>
                <a:ext cx="3571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0" y="62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3203640" y="4149720"/>
                <a:ext cx="12240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1116000" y="3500280"/>
                <a:ext cx="3571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292720" y="2492280"/>
                <a:ext cx="7779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6948360" y="4365720"/>
                <a:ext cx="12668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1692360" y="0"/>
            <a:ext cx="67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Ответы для самопроверки к заданиям самостоятельной тестовой работ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250920" y="476280"/>
            <a:ext cx="889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Подведение итого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2. Практические умения и навы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68360" y="919080"/>
            <a:ext cx="7991280" cy="58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Оценка                                                                                                                "3"  -   5-6 заданий верно                                                                                                                "4"  -   7-8 заданий верно                                                                                                                "5"  -   9-10 заданий верно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971640" y="1700280"/>
            <a:ext cx="72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99"/>
                </a:solidFill>
                <a:latin typeface="Arial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99"/>
                </a:solidFill>
                <a:latin typeface="Arial"/>
              </a:rPr>
              <a:t>за урок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06560" y="332280"/>
            <a:ext cx="76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Установите истинность высказы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1150560"/>
            <a:ext cx="83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Функцию вида у = а   , где а &gt; 0 и а ≠ 1, называют показательной функцией с основанием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635280" y="981000"/>
                <a:ext cx="3175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651640" y="3068640"/>
                <a:ext cx="14396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179280" y="4327560"/>
            <a:ext cx="846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. Областью определения логарифмической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функции является вся числовая пря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05920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. Областью значений показательной функ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является промежуток (0;+∞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306864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. Функцию, заданную формулой                        , г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 &gt; 0 и а ≠ 1 называют логарифмической  функцие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 основанием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5303880"/>
            <a:ext cx="843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5. Логарифмическая функция при а &gt;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является  убывающ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26920" y="259200"/>
            <a:ext cx="81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Установите истинность высказы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1150560"/>
            <a:ext cx="83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6. Функция вида у = 3   является возрастаю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 всей области определения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635280" y="981000"/>
                <a:ext cx="3175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4510440"/>
            <a:ext cx="83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9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216720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7. Областью значений показательной функ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 = 5   +1    является промежуток (0;+∞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2924280"/>
            <a:ext cx="84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8. Функция                         является убывающей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0;+∞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5486760"/>
            <a:ext cx="84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619280" y="2421000"/>
                <a:ext cx="3348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340000" y="3284640"/>
                <a:ext cx="144144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971640" y="4368960"/>
                <a:ext cx="27367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у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у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971640" y="5316480"/>
                <a:ext cx="23763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у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ху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58920" y="2602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Установите истинность высказы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836640"/>
            <a:ext cx="857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Функцию вида у = а   , где а &gt; 0 и а ≠ 1, называют показательной функцией с основанием а.   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635280" y="765000"/>
                <a:ext cx="2383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91628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. Областью значений показательной функ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является промежуток (0;+∞).   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2997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. Функцию, заданную формулой                        , г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 &gt; 0 и а ≠ 1 называют логарифмической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функцией  с основанием а.          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724360" y="2997360"/>
                <a:ext cx="12956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а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179280" y="4365720"/>
            <a:ext cx="82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4. Областью определения логарифмическо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функции является вся числовая прямая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5300640"/>
            <a:ext cx="69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5. Логарифмическая функция при а &gt;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является  убывающей.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425680" y="2597040"/>
                <a:ext cx="1015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6235560" y="2590920"/>
                <a:ext cx="86364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у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у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425680" y="4937040"/>
                <a:ext cx="1015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00000" y="40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Установите истинность высказы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1197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6. Функция вида у = 3   является возрастаю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 всей области определения .   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635280" y="981000"/>
                <a:ext cx="322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250920" y="227664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7. Областью значений показательной функ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у = 5   +1    является промежуток (0;+∞).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328464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8. Функция                         является убывающей на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0;+∞).                                                   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556000" y="3284640"/>
                <a:ext cx="12510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24000" y="4365720"/>
            <a:ext cx="69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9.                                                               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(+)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826920" y="4192560"/>
                <a:ext cx="40323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у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у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 flipV="1" rot="10800000">
            <a:off x="395280" y="52290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10.                  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58920" y="5013360"/>
                <a:ext cx="23763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у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ху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476360" y="2492280"/>
                <a:ext cx="322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222640" y="374796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11280" y="2602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Установите соответствие между левыми и правыми столбцами форму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413000"/>
            <a:ext cx="842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1.                                         1.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2.                                        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3.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5.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 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971640" y="1341360"/>
                <a:ext cx="14302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5867280" y="1449360"/>
                <a:ext cx="22338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971640" y="2349360"/>
                <a:ext cx="143964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867280" y="2421000"/>
                <a:ext cx="22320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900000" y="3311640"/>
                <a:ext cx="165600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5796000" y="3357720"/>
                <a:ext cx="1366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900000" y="4076640"/>
                <a:ext cx="144000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796000" y="4292640"/>
                <a:ext cx="3175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826920" y="5157720"/>
                <a:ext cx="18003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796000" y="5300640"/>
                <a:ext cx="3873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24000" y="1349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i="1" lang="en-US" sz="5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i="1" lang="en-US" sz="5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i="1" lang="en-US" sz="5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i="1" lang="en-US" sz="5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i="1" lang="en-US" sz="5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i="1" lang="en-US" sz="5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i="1" lang="en-US" sz="5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i="1" lang="en-US" sz="5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116000" y="1197000"/>
                <a:ext cx="15843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250920" y="27900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Установить соответствие между функциями и их графика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680" y="2693520"/>
            <a:ext cx="52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1257480"/>
                <a:tab algn="l" pos="14860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257480"/>
                <a:tab algn="l" pos="14860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24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95280" y="2637000"/>
            <a:ext cx="8137440" cy="2447640"/>
            <a:chOff x="395280" y="2637000"/>
            <a:chExt cx="8137440" cy="2447640"/>
          </a:xfrm>
        </p:grpSpPr>
        <p:sp>
          <p:nvSpPr>
            <p:cNvPr id="161" name=""/>
            <p:cNvSpPr/>
            <p:nvPr/>
          </p:nvSpPr>
          <p:spPr>
            <a:xfrm flipV="1">
              <a:off x="893160" y="2709000"/>
              <a:ext cx="0" cy="2356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0200" y="4224960"/>
              <a:ext cx="149760" cy="24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95280" y="4181040"/>
              <a:ext cx="1724760" cy="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50760" y="3541320"/>
              <a:ext cx="1140840" cy="1474560"/>
            </a:xfrm>
            <a:custGeom>
              <a:avLst/>
              <a:gdLst/>
              <a:ahLst/>
              <a:rect l="l" t="t" r="r" b="b"/>
              <a:pathLst>
                <a:path w="1302" h="1422">
                  <a:moveTo>
                    <a:pt x="0" y="1422"/>
                  </a:moveTo>
                  <a:lnTo>
                    <a:pt x="33" y="1129"/>
                  </a:lnTo>
                  <a:lnTo>
                    <a:pt x="74" y="911"/>
                  </a:lnTo>
                  <a:lnTo>
                    <a:pt x="128" y="758"/>
                  </a:lnTo>
                  <a:lnTo>
                    <a:pt x="163" y="694"/>
                  </a:lnTo>
                  <a:lnTo>
                    <a:pt x="218" y="614"/>
                  </a:lnTo>
                  <a:lnTo>
                    <a:pt x="303" y="499"/>
                  </a:lnTo>
                  <a:lnTo>
                    <a:pt x="403" y="404"/>
                  </a:lnTo>
                  <a:lnTo>
                    <a:pt x="498" y="334"/>
                  </a:lnTo>
                  <a:lnTo>
                    <a:pt x="643" y="229"/>
                  </a:lnTo>
                  <a:lnTo>
                    <a:pt x="793" y="149"/>
                  </a:lnTo>
                  <a:lnTo>
                    <a:pt x="913" y="104"/>
                  </a:lnTo>
                  <a:lnTo>
                    <a:pt x="1073" y="54"/>
                  </a:lnTo>
                  <a:lnTo>
                    <a:pt x="1302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9880" y="2644200"/>
              <a:ext cx="214560" cy="41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13120" y="4243320"/>
              <a:ext cx="14868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934280" y="4198680"/>
              <a:ext cx="17496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0640" y="3749760"/>
              <a:ext cx="14868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395280" y="2709000"/>
              <a:ext cx="1742400" cy="2357280"/>
              <a:chOff x="395280" y="2709000"/>
              <a:chExt cx="1742400" cy="235728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395280" y="2709000"/>
                <a:ext cx="1742400" cy="2357280"/>
                <a:chOff x="395280" y="2709000"/>
                <a:chExt cx="1742400" cy="2357280"/>
              </a:xfrm>
            </p:grpSpPr>
            <p:sp>
              <p:nvSpPr>
                <p:cNvPr id="171" name=""/>
                <p:cNvSpPr/>
                <p:nvPr/>
              </p:nvSpPr>
              <p:spPr>
                <a:xfrm flipV="1">
                  <a:off x="395280" y="5065200"/>
                  <a:ext cx="1741680" cy="108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V="1">
                  <a:off x="395280" y="4476600"/>
                  <a:ext cx="1741680" cy="72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95280" y="4181760"/>
                  <a:ext cx="1742400" cy="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V="1">
                  <a:off x="395280" y="3887280"/>
                  <a:ext cx="1741680" cy="72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V="1">
                  <a:off x="395280" y="3592440"/>
                  <a:ext cx="1741680" cy="108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>
                  <a:off x="395280" y="3003840"/>
                  <a:ext cx="1741680" cy="72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V="1">
                  <a:off x="395280" y="3298320"/>
                  <a:ext cx="1741680" cy="72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V="1">
                  <a:off x="395280" y="2709000"/>
                  <a:ext cx="1741680" cy="108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V="1">
                  <a:off x="395280" y="4771080"/>
                  <a:ext cx="1741680" cy="72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395280" y="2709360"/>
                <a:ext cx="1742400" cy="2356200"/>
                <a:chOff x="395280" y="2709360"/>
                <a:chExt cx="1742400" cy="23562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95280" y="2709360"/>
                  <a:ext cx="0" cy="23562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44040" y="2709360"/>
                  <a:ext cx="0" cy="23562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141920" y="2709360"/>
                  <a:ext cx="0" cy="23562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390680" y="2709360"/>
                  <a:ext cx="0" cy="23562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639800" y="2709360"/>
                  <a:ext cx="0" cy="23562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888920" y="2709360"/>
                  <a:ext cx="0" cy="23562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137680" y="2709360"/>
                  <a:ext cx="0" cy="23562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892800" y="2709360"/>
                  <a:ext cx="0" cy="23562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9" name=""/>
            <p:cNvGrpSpPr/>
            <p:nvPr/>
          </p:nvGrpSpPr>
          <p:grpSpPr>
            <a:xfrm>
              <a:off x="2285640" y="2637000"/>
              <a:ext cx="2003400" cy="2422080"/>
              <a:chOff x="2285640" y="2637000"/>
              <a:chExt cx="2003400" cy="2422080"/>
            </a:xfrm>
          </p:grpSpPr>
          <p:sp>
            <p:nvSpPr>
              <p:cNvPr id="190" name=""/>
              <p:cNvSpPr/>
              <p:nvPr/>
            </p:nvSpPr>
            <p:spPr>
              <a:xfrm>
                <a:off x="2285640" y="2709360"/>
                <a:ext cx="27576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3044520" y="2701800"/>
                <a:ext cx="0" cy="2356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848320" y="4209120"/>
                <a:ext cx="165240" cy="26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2546640" y="4170600"/>
                <a:ext cx="172476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098160" y="2919960"/>
                <a:ext cx="1185840" cy="1963080"/>
              </a:xfrm>
              <a:custGeom>
                <a:avLst/>
                <a:gdLst/>
                <a:ahLst/>
                <a:rect l="l" t="t" r="r" b="b"/>
                <a:pathLst>
                  <a:path w="1353" h="1893">
                    <a:moveTo>
                      <a:pt x="0" y="0"/>
                    </a:moveTo>
                    <a:lnTo>
                      <a:pt x="15" y="285"/>
                    </a:lnTo>
                    <a:lnTo>
                      <a:pt x="30" y="486"/>
                    </a:lnTo>
                    <a:lnTo>
                      <a:pt x="48" y="684"/>
                    </a:lnTo>
                    <a:lnTo>
                      <a:pt x="63" y="810"/>
                    </a:lnTo>
                    <a:lnTo>
                      <a:pt x="81" y="915"/>
                    </a:lnTo>
                    <a:lnTo>
                      <a:pt x="117" y="1023"/>
                    </a:lnTo>
                    <a:lnTo>
                      <a:pt x="162" y="1113"/>
                    </a:lnTo>
                    <a:lnTo>
                      <a:pt x="246" y="1242"/>
                    </a:lnTo>
                    <a:lnTo>
                      <a:pt x="345" y="1356"/>
                    </a:lnTo>
                    <a:lnTo>
                      <a:pt x="507" y="1497"/>
                    </a:lnTo>
                    <a:lnTo>
                      <a:pt x="678" y="1605"/>
                    </a:lnTo>
                    <a:lnTo>
                      <a:pt x="870" y="1701"/>
                    </a:lnTo>
                    <a:lnTo>
                      <a:pt x="1071" y="1782"/>
                    </a:lnTo>
                    <a:lnTo>
                      <a:pt x="1353" y="1893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790360" y="2637000"/>
                <a:ext cx="206640" cy="33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89240" y="4242240"/>
                <a:ext cx="149040" cy="26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4089600" y="4258800"/>
                <a:ext cx="188280" cy="27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862360" y="3724560"/>
                <a:ext cx="148680" cy="26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2546640" y="2701800"/>
                <a:ext cx="1742400" cy="2357280"/>
                <a:chOff x="2546640" y="2701800"/>
                <a:chExt cx="1742400" cy="2357280"/>
              </a:xfrm>
            </p:grpSpPr>
            <p:sp>
              <p:nvSpPr>
                <p:cNvPr id="200" name=""/>
                <p:cNvSpPr/>
                <p:nvPr/>
              </p:nvSpPr>
              <p:spPr>
                <a:xfrm flipV="1">
                  <a:off x="2546640" y="5058000"/>
                  <a:ext cx="1741680" cy="108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V="1">
                  <a:off x="2546640" y="4469400"/>
                  <a:ext cx="1741680" cy="72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546640" y="4174560"/>
                  <a:ext cx="174240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V="1">
                  <a:off x="2546640" y="3880080"/>
                  <a:ext cx="1741680" cy="72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V="1">
                  <a:off x="2546640" y="3585240"/>
                  <a:ext cx="1741680" cy="108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V="1">
                  <a:off x="2546640" y="2996640"/>
                  <a:ext cx="1741680" cy="72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V="1">
                  <a:off x="2546640" y="3291120"/>
                  <a:ext cx="1741680" cy="72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2546640" y="2701800"/>
                  <a:ext cx="1741680" cy="108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V="1">
                  <a:off x="2546640" y="4763880"/>
                  <a:ext cx="1741680" cy="72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2546640" y="2702160"/>
                <a:ext cx="1742400" cy="2356200"/>
                <a:chOff x="2546640" y="2702160"/>
                <a:chExt cx="1742400" cy="235620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2546640" y="2702160"/>
                  <a:ext cx="0" cy="23562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795400" y="2702160"/>
                  <a:ext cx="0" cy="23562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293280" y="2702160"/>
                  <a:ext cx="0" cy="23562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542040" y="2702160"/>
                  <a:ext cx="0" cy="23562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791160" y="2702160"/>
                  <a:ext cx="0" cy="23562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040280" y="2702160"/>
                  <a:ext cx="0" cy="23562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289040" y="2702160"/>
                  <a:ext cx="0" cy="23562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044160" y="2702160"/>
                  <a:ext cx="0" cy="23562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8" name=""/>
            <p:cNvSpPr/>
            <p:nvPr/>
          </p:nvSpPr>
          <p:spPr>
            <a:xfrm>
              <a:off x="6512400" y="2640960"/>
              <a:ext cx="27576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84920" y="4196880"/>
              <a:ext cx="1738080" cy="9000"/>
            </a:xfrm>
            <a:custGeom>
              <a:avLst/>
              <a:gdLst/>
              <a:ahLst/>
              <a:rect l="l" t="t" r="r" b="b"/>
              <a:pathLst>
                <a:path w="1983" h="9">
                  <a:moveTo>
                    <a:pt x="0" y="0"/>
                  </a:moveTo>
                  <a:lnTo>
                    <a:pt x="1983" y="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982200" y="2798640"/>
              <a:ext cx="1405800" cy="1341000"/>
            </a:xfrm>
            <a:custGeom>
              <a:avLst/>
              <a:gdLst/>
              <a:ahLst/>
              <a:rect l="l" t="t" r="r" b="b"/>
              <a:pathLst>
                <a:path w="1604" h="1293">
                  <a:moveTo>
                    <a:pt x="1604" y="1293"/>
                  </a:moveTo>
                  <a:lnTo>
                    <a:pt x="1374" y="1278"/>
                  </a:lnTo>
                  <a:lnTo>
                    <a:pt x="1194" y="1263"/>
                  </a:lnTo>
                  <a:lnTo>
                    <a:pt x="1049" y="1248"/>
                  </a:lnTo>
                  <a:lnTo>
                    <a:pt x="919" y="1223"/>
                  </a:lnTo>
                  <a:lnTo>
                    <a:pt x="814" y="1183"/>
                  </a:lnTo>
                  <a:lnTo>
                    <a:pt x="719" y="1133"/>
                  </a:lnTo>
                  <a:lnTo>
                    <a:pt x="624" y="1073"/>
                  </a:lnTo>
                  <a:lnTo>
                    <a:pt x="539" y="1003"/>
                  </a:lnTo>
                  <a:lnTo>
                    <a:pt x="479" y="953"/>
                  </a:lnTo>
                  <a:lnTo>
                    <a:pt x="419" y="878"/>
                  </a:lnTo>
                  <a:lnTo>
                    <a:pt x="342" y="777"/>
                  </a:lnTo>
                  <a:lnTo>
                    <a:pt x="234" y="608"/>
                  </a:lnTo>
                  <a:lnTo>
                    <a:pt x="144" y="438"/>
                  </a:lnTo>
                  <a:lnTo>
                    <a:pt x="66" y="216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6786720" y="2698920"/>
              <a:ext cx="1742400" cy="2357280"/>
              <a:chOff x="6786720" y="2698920"/>
              <a:chExt cx="1742400" cy="2357280"/>
            </a:xfrm>
          </p:grpSpPr>
          <p:sp>
            <p:nvSpPr>
              <p:cNvPr id="222" name=""/>
              <p:cNvSpPr/>
              <p:nvPr/>
            </p:nvSpPr>
            <p:spPr>
              <a:xfrm flipV="1">
                <a:off x="6786720" y="5055120"/>
                <a:ext cx="1741680" cy="10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6786720" y="4466520"/>
                <a:ext cx="1741680" cy="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786720" y="4171680"/>
                <a:ext cx="1742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6786720" y="3877200"/>
                <a:ext cx="1741680" cy="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6786720" y="3582360"/>
                <a:ext cx="1741680" cy="10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6786720" y="2993760"/>
                <a:ext cx="1741680" cy="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6786720" y="3288240"/>
                <a:ext cx="1741680" cy="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6786720" y="2698920"/>
                <a:ext cx="1741680" cy="10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6786720" y="4761000"/>
                <a:ext cx="1741680" cy="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6786720" y="2728440"/>
              <a:ext cx="1742400" cy="2356200"/>
              <a:chOff x="6786720" y="2728440"/>
              <a:chExt cx="1742400" cy="2356200"/>
            </a:xfrm>
          </p:grpSpPr>
          <p:sp>
            <p:nvSpPr>
              <p:cNvPr id="232" name=""/>
              <p:cNvSpPr/>
              <p:nvPr/>
            </p:nvSpPr>
            <p:spPr>
              <a:xfrm>
                <a:off x="6786720" y="2728440"/>
                <a:ext cx="0" cy="235620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035480" y="2728440"/>
                <a:ext cx="0" cy="235620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533360" y="2728440"/>
                <a:ext cx="0" cy="235620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782120" y="2728440"/>
                <a:ext cx="0" cy="235620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031240" y="2728440"/>
                <a:ext cx="0" cy="235620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280360" y="2728440"/>
                <a:ext cx="0" cy="235620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529120" y="2728440"/>
                <a:ext cx="0" cy="235620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284240" y="2728440"/>
                <a:ext cx="0" cy="235620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 flipH="1" flipV="1">
              <a:off x="7532640" y="2738160"/>
              <a:ext cx="720" cy="234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8318160" y="4255920"/>
              <a:ext cx="21456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706880" y="4244760"/>
              <a:ext cx="14904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90720" y="3813840"/>
              <a:ext cx="14868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66240" y="2657880"/>
              <a:ext cx="18216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58040" y="4232160"/>
              <a:ext cx="149760" cy="24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77240" y="2670120"/>
              <a:ext cx="27576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4647240" y="2670120"/>
              <a:ext cx="1755360" cy="2406600"/>
              <a:chOff x="4647240" y="2670120"/>
              <a:chExt cx="1755360" cy="2406600"/>
            </a:xfrm>
          </p:grpSpPr>
          <p:sp>
            <p:nvSpPr>
              <p:cNvPr id="248" name=""/>
              <p:cNvSpPr/>
              <p:nvPr/>
            </p:nvSpPr>
            <p:spPr>
              <a:xfrm>
                <a:off x="4654800" y="4168440"/>
                <a:ext cx="1738440" cy="9000"/>
              </a:xfrm>
              <a:custGeom>
                <a:avLst/>
                <a:gdLst/>
                <a:ahLst/>
                <a:rect l="l" t="t" r="r" b="b"/>
                <a:pathLst>
                  <a:path w="1983" h="9">
                    <a:moveTo>
                      <a:pt x="0" y="0"/>
                    </a:moveTo>
                    <a:lnTo>
                      <a:pt x="1983" y="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647240" y="2709360"/>
                <a:ext cx="1320840" cy="1391760"/>
              </a:xfrm>
              <a:custGeom>
                <a:avLst/>
                <a:gdLst/>
                <a:ahLst/>
                <a:rect l="l" t="t" r="r" b="b"/>
                <a:pathLst>
                  <a:path w="1507" h="1342">
                    <a:moveTo>
                      <a:pt x="0" y="1342"/>
                    </a:moveTo>
                    <a:lnTo>
                      <a:pt x="131" y="1335"/>
                    </a:lnTo>
                    <a:lnTo>
                      <a:pt x="296" y="1339"/>
                    </a:lnTo>
                    <a:lnTo>
                      <a:pt x="446" y="1305"/>
                    </a:lnTo>
                    <a:lnTo>
                      <a:pt x="581" y="1271"/>
                    </a:lnTo>
                    <a:lnTo>
                      <a:pt x="667" y="1241"/>
                    </a:lnTo>
                    <a:lnTo>
                      <a:pt x="746" y="1207"/>
                    </a:lnTo>
                    <a:lnTo>
                      <a:pt x="865" y="1131"/>
                    </a:lnTo>
                    <a:lnTo>
                      <a:pt x="971" y="1054"/>
                    </a:lnTo>
                    <a:lnTo>
                      <a:pt x="1046" y="967"/>
                    </a:lnTo>
                    <a:lnTo>
                      <a:pt x="1140" y="844"/>
                    </a:lnTo>
                    <a:lnTo>
                      <a:pt x="1274" y="621"/>
                    </a:lnTo>
                    <a:lnTo>
                      <a:pt x="1358" y="447"/>
                    </a:lnTo>
                    <a:lnTo>
                      <a:pt x="1430" y="276"/>
                    </a:lnTo>
                    <a:lnTo>
                      <a:pt x="1474" y="135"/>
                    </a:lnTo>
                    <a:lnTo>
                      <a:pt x="1507" y="0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4654080" y="2699280"/>
                <a:ext cx="1742400" cy="2357280"/>
                <a:chOff x="4654080" y="2699280"/>
                <a:chExt cx="1742400" cy="2357280"/>
              </a:xfrm>
            </p:grpSpPr>
            <p:grpSp>
              <p:nvGrpSpPr>
                <p:cNvPr id="251" name=""/>
                <p:cNvGrpSpPr/>
                <p:nvPr/>
              </p:nvGrpSpPr>
              <p:grpSpPr>
                <a:xfrm>
                  <a:off x="4654080" y="2699280"/>
                  <a:ext cx="1742400" cy="2357280"/>
                  <a:chOff x="4654080" y="2699280"/>
                  <a:chExt cx="1742400" cy="235728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 flipV="1">
                    <a:off x="4654080" y="5055480"/>
                    <a:ext cx="1741680" cy="108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V="1">
                    <a:off x="4654080" y="4466880"/>
                    <a:ext cx="1741680" cy="72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4654080" y="4172040"/>
                    <a:ext cx="1742400" cy="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flipV="1">
                    <a:off x="4654080" y="3877560"/>
                    <a:ext cx="1741680" cy="72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flipV="1">
                    <a:off x="4654080" y="3582720"/>
                    <a:ext cx="1741680" cy="108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 flipV="1">
                    <a:off x="4654080" y="2994120"/>
                    <a:ext cx="1741680" cy="72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V="1">
                    <a:off x="4654080" y="3288600"/>
                    <a:ext cx="1741680" cy="72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flipV="1">
                    <a:off x="4654080" y="2699280"/>
                    <a:ext cx="1741680" cy="108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flipV="1">
                    <a:off x="4654080" y="4761360"/>
                    <a:ext cx="1741680" cy="72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1" name=""/>
                <p:cNvGrpSpPr/>
                <p:nvPr/>
              </p:nvGrpSpPr>
              <p:grpSpPr>
                <a:xfrm>
                  <a:off x="4654080" y="2699640"/>
                  <a:ext cx="1742400" cy="2356200"/>
                  <a:chOff x="4654080" y="2699640"/>
                  <a:chExt cx="1742400" cy="235620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>
                    <a:off x="4654080" y="2699640"/>
                    <a:ext cx="0" cy="235620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4902840" y="2699640"/>
                    <a:ext cx="0" cy="235620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400720" y="2699640"/>
                    <a:ext cx="0" cy="235620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649480" y="2699640"/>
                    <a:ext cx="0" cy="235620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898600" y="2699640"/>
                    <a:ext cx="0" cy="235620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6147720" y="2699640"/>
                    <a:ext cx="0" cy="235620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396480" y="2699640"/>
                    <a:ext cx="0" cy="235620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5151600" y="2699640"/>
                    <a:ext cx="0" cy="235620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0" name=""/>
              <p:cNvSpPr/>
              <p:nvPr/>
            </p:nvSpPr>
            <p:spPr>
              <a:xfrm flipH="1" flipV="1">
                <a:off x="5397840" y="2728080"/>
                <a:ext cx="6120" cy="2348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6207480" y="4235760"/>
                <a:ext cx="195120" cy="24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591880" y="4221360"/>
                <a:ext cx="149040" cy="26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169600" y="3676680"/>
                <a:ext cx="148680" cy="26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961880" y="2670120"/>
                <a:ext cx="51264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212440" y="4221360"/>
                <a:ext cx="14976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6" name=""/>
          <p:cNvSpPr/>
          <p:nvPr/>
        </p:nvSpPr>
        <p:spPr>
          <a:xfrm>
            <a:off x="971640" y="2060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419640" y="2060640"/>
            <a:ext cx="5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64000" y="20606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732720" y="1989000"/>
            <a:ext cx="18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580000" y="1197000"/>
                <a:ext cx="208764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684360" y="148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2360" y="1484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05T13:41:46Z</dcterms:created>
  <dc:creator>dns</dc:creator>
  <dc:description/>
  <dc:language>en-US</dc:language>
  <cp:lastModifiedBy>dns</cp:lastModifiedBy>
  <dcterms:modified xsi:type="dcterms:W3CDTF">2020-12-16T17:20:03Z</dcterms:modified>
  <cp:revision>17</cp:revision>
  <dc:subject/>
  <dc:title>Слайд 1</dc:title>
</cp:coreProperties>
</file>